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png" ContentType="image/png"/>
  <Override PartName="/ppt/media/image4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32.gif" ContentType="image/gif"/>
  <Override PartName="/ppt/media/image18.jpeg" ContentType="image/jpeg"/>
  <Override PartName="/ppt/media/image26.png" ContentType="image/png"/>
  <Override PartName="/ppt/media/image13.gif" ContentType="image/gif"/>
  <Override PartName="/ppt/media/image10.gif" ContentType="image/gif"/>
  <Override PartName="/ppt/media/image31.png" ContentType="image/png"/>
  <Override PartName="/ppt/media/image8.jpeg" ContentType="image/jpeg"/>
  <Override PartName="/ppt/media/image25.gif" ContentType="image/gif"/>
  <Override PartName="/ppt/media/image14.jpeg" ContentType="image/jpeg"/>
  <Override PartName="/ppt/media/image28.gif" ContentType="image/gif"/>
  <Override PartName="/ppt/media/image33.png" ContentType="image/png"/>
  <Override PartName="/ppt/media/image40.gif" ContentType="image/gif"/>
  <Override PartName="/ppt/media/image38.gif" ContentType="image/gif"/>
  <Override PartName="/ppt/media/image15.jpeg" ContentType="image/jpeg"/>
  <Override PartName="/ppt/media/image36.png" ContentType="image/png"/>
  <Override PartName="/ppt/media/image37.gif" ContentType="image/gif"/>
  <Override PartName="/ppt/media/image16.jpeg" ContentType="image/jpeg"/>
  <Override PartName="/ppt/media/image39.gif" ContentType="image/gif"/>
  <Override PartName="/ppt/media/image9.gif" ContentType="image/gif"/>
  <Override PartName="/ppt/media/explode.wav" ContentType="audio/x-wav"/>
  <Override PartName="/ppt/media/image5.png" ContentType="image/png"/>
  <Override PartName="/ppt/media/applause.wav" ContentType="audio/x-wav"/>
  <Override PartName="/ppt/media/image35.png" ContentType="image/pn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11.gif" ContentType="image/gif"/>
  <Override PartName="/ppt/media/image3.jpeg" ContentType="image/jpeg"/>
  <Override PartName="/ppt/media/image2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975-AC69-4CDD-98F0-13C9D9ED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393-5499-46AA-99AF-6CCDAE00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8D3-262F-466A-A28B-8A6AAA21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A3D-EADE-4793-A2A6-5A201EEE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67D-48D5-4DDD-856F-4F55A55C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4C0-D267-4A01-AD48-BE9C35C6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9A6-D5CE-48DD-B565-D9683049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494-EED2-4937-A222-4287CADC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D3A-D143-47DB-ADF6-36546AF1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6BC-9B73-4EE6-833C-FF9F186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FAE-AB2D-4D22-8A39-2FA139B4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DAD-B194-417E-9880-78089491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063C-5B33-4318-A9D5-06467B332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1.xml"/><Relationship Id="rId3" Type="http://schemas.openxmlformats.org/officeDocument/2006/relationships/image" Target="../media/image9.gif"/><Relationship Id="rId4" Type="http://schemas.openxmlformats.org/officeDocument/2006/relationships/slide" Target="slide12.xml"/><Relationship Id="rId5" Type="http://schemas.openxmlformats.org/officeDocument/2006/relationships/image" Target="../media/image10.gif"/><Relationship Id="rId6" Type="http://schemas.openxmlformats.org/officeDocument/2006/relationships/slide" Target="slide13.xml"/><Relationship Id="rId7" Type="http://schemas.openxmlformats.org/officeDocument/2006/relationships/image" Target="../media/image11.gif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gif"/><Relationship Id="rId1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6.xml"/><Relationship Id="rId3" Type="http://schemas.openxmlformats.org/officeDocument/2006/relationships/image" Target="../media/image15.jpeg"/><Relationship Id="rId4" Type="http://schemas.openxmlformats.org/officeDocument/2006/relationships/slide" Target="slide22.xml"/><Relationship Id="rId5" Type="http://schemas.openxmlformats.org/officeDocument/2006/relationships/image" Target="../media/image16.jpeg"/><Relationship Id="rId6" Type="http://schemas.openxmlformats.org/officeDocument/2006/relationships/slide" Target="slide19.xml"/><Relationship Id="rId7" Type="http://schemas.openxmlformats.org/officeDocument/2006/relationships/image" Target="../media/image17.jpeg"/><Relationship Id="rId8" Type="http://schemas.openxmlformats.org/officeDocument/2006/relationships/slide" Target="slide15.xml"/><Relationship Id="rId9" Type="http://schemas.openxmlformats.org/officeDocument/2006/relationships/image" Target="../media/image18.jpeg"/><Relationship Id="rId10" Type="http://schemas.openxmlformats.org/officeDocument/2006/relationships/slide" Target="slide18.xml"/><Relationship Id="rId11" Type="http://schemas.openxmlformats.org/officeDocument/2006/relationships/image" Target="../media/image19.jpeg"/><Relationship Id="rId12" Type="http://schemas.openxmlformats.org/officeDocument/2006/relationships/slide" Target="slide21.xml"/><Relationship Id="rId13" Type="http://schemas.openxmlformats.org/officeDocument/2006/relationships/image" Target="../media/image20.jpeg"/><Relationship Id="rId14" Type="http://schemas.openxmlformats.org/officeDocument/2006/relationships/slide" Target="slide20.xml"/><Relationship Id="rId15" Type="http://schemas.openxmlformats.org/officeDocument/2006/relationships/image" Target="../media/image21.png"/><Relationship Id="rId16" Type="http://schemas.openxmlformats.org/officeDocument/2006/relationships/slide" Target="slide14.xml"/><Relationship Id="rId17" Type="http://schemas.openxmlformats.org/officeDocument/2006/relationships/image" Target="../media/image22.png"/><Relationship Id="rId18" Type="http://schemas.openxmlformats.org/officeDocument/2006/relationships/slide" Target="slide14.xml"/><Relationship Id="rId19" Type="http://schemas.openxmlformats.org/officeDocument/2006/relationships/slide" Target="slide17.xml"/><Relationship Id="rId20" Type="http://schemas.openxmlformats.org/officeDocument/2006/relationships/image" Target="../media/image23.png"/><Relationship Id="rId21" Type="http://schemas.openxmlformats.org/officeDocument/2006/relationships/slide" Target="slide24.xml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5.xml"/><Relationship Id="rId3" Type="http://schemas.openxmlformats.org/officeDocument/2006/relationships/image" Target="../media/image15.jpeg"/><Relationship Id="rId4" Type="http://schemas.openxmlformats.org/officeDocument/2006/relationships/slide" Target="slide31.xml"/><Relationship Id="rId5" Type="http://schemas.openxmlformats.org/officeDocument/2006/relationships/image" Target="../media/image16.jpeg"/><Relationship Id="rId6" Type="http://schemas.openxmlformats.org/officeDocument/2006/relationships/slide" Target="slide28.xml"/><Relationship Id="rId7" Type="http://schemas.openxmlformats.org/officeDocument/2006/relationships/image" Target="../media/image17.jpeg"/><Relationship Id="rId8" Type="http://schemas.openxmlformats.org/officeDocument/2006/relationships/slide" Target="slide24.xml"/><Relationship Id="rId9" Type="http://schemas.openxmlformats.org/officeDocument/2006/relationships/image" Target="../media/image18.jpeg"/><Relationship Id="rId10" Type="http://schemas.openxmlformats.org/officeDocument/2006/relationships/slide" Target="slide27.xml"/><Relationship Id="rId11" Type="http://schemas.openxmlformats.org/officeDocument/2006/relationships/image" Target="../media/image19.jpeg"/><Relationship Id="rId12" Type="http://schemas.openxmlformats.org/officeDocument/2006/relationships/slide" Target="slide30.xml"/><Relationship Id="rId13" Type="http://schemas.openxmlformats.org/officeDocument/2006/relationships/image" Target="../media/image20.jpeg"/><Relationship Id="rId14" Type="http://schemas.openxmlformats.org/officeDocument/2006/relationships/slide" Target="slide29.xml"/><Relationship Id="rId15" Type="http://schemas.openxmlformats.org/officeDocument/2006/relationships/image" Target="../media/image21.png"/><Relationship Id="rId16" Type="http://schemas.openxmlformats.org/officeDocument/2006/relationships/slide" Target="slide23.xml"/><Relationship Id="rId17" Type="http://schemas.openxmlformats.org/officeDocument/2006/relationships/image" Target="../media/image22.png"/><Relationship Id="rId18" Type="http://schemas.openxmlformats.org/officeDocument/2006/relationships/slide" Target="slide14.xml"/><Relationship Id="rId19" Type="http://schemas.openxmlformats.org/officeDocument/2006/relationships/slide" Target="slide26.xml"/><Relationship Id="rId20" Type="http://schemas.openxmlformats.org/officeDocument/2006/relationships/image" Target="../media/image23.png"/><Relationship Id="rId21" Type="http://schemas.openxmlformats.org/officeDocument/2006/relationships/slide" Target="slide24.xml"/><Relationship Id="rId22" Type="http://schemas.openxmlformats.org/officeDocument/2006/relationships/image" Target="../media/image25.gif"/><Relationship Id="rId2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4.xml"/><Relationship Id="rId3" Type="http://schemas.openxmlformats.org/officeDocument/2006/relationships/image" Target="../media/image15.jpeg"/><Relationship Id="rId4" Type="http://schemas.openxmlformats.org/officeDocument/2006/relationships/slide" Target="slide37.xml"/><Relationship Id="rId5" Type="http://schemas.openxmlformats.org/officeDocument/2006/relationships/image" Target="../media/image17.jpeg"/><Relationship Id="rId6" Type="http://schemas.openxmlformats.org/officeDocument/2006/relationships/slide" Target="slide33.xml"/><Relationship Id="rId7" Type="http://schemas.openxmlformats.org/officeDocument/2006/relationships/image" Target="../media/image18.jpeg"/><Relationship Id="rId8" Type="http://schemas.openxmlformats.org/officeDocument/2006/relationships/slide" Target="slide36.xml"/><Relationship Id="rId9" Type="http://schemas.openxmlformats.org/officeDocument/2006/relationships/image" Target="../media/image19.jpeg"/><Relationship Id="rId10" Type="http://schemas.openxmlformats.org/officeDocument/2006/relationships/slide" Target="slide39.xml"/><Relationship Id="rId11" Type="http://schemas.openxmlformats.org/officeDocument/2006/relationships/image" Target="../media/image20.jpeg"/><Relationship Id="rId12" Type="http://schemas.openxmlformats.org/officeDocument/2006/relationships/slide" Target="slide38.xml"/><Relationship Id="rId13" Type="http://schemas.openxmlformats.org/officeDocument/2006/relationships/image" Target="../media/image21.png"/><Relationship Id="rId14" Type="http://schemas.openxmlformats.org/officeDocument/2006/relationships/slide" Target="slide40.xml"/><Relationship Id="rId15" Type="http://schemas.openxmlformats.org/officeDocument/2006/relationships/image" Target="../media/image27.png"/><Relationship Id="rId16" Type="http://schemas.openxmlformats.org/officeDocument/2006/relationships/slide" Target="slide32.xml"/><Relationship Id="rId17" Type="http://schemas.openxmlformats.org/officeDocument/2006/relationships/image" Target="../media/image22.png"/><Relationship Id="rId18" Type="http://schemas.openxmlformats.org/officeDocument/2006/relationships/slide" Target="slide14.xml"/><Relationship Id="rId19" Type="http://schemas.openxmlformats.org/officeDocument/2006/relationships/slide" Target="slide35.xml"/><Relationship Id="rId20" Type="http://schemas.openxmlformats.org/officeDocument/2006/relationships/image" Target="../media/image23.png"/><Relationship Id="rId21" Type="http://schemas.openxmlformats.org/officeDocument/2006/relationships/slide" Target="slide24.xml"/><Relationship Id="rId22" Type="http://schemas.openxmlformats.org/officeDocument/2006/relationships/image" Target="../media/image28.gif"/><Relationship Id="rId2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" Target="slide10.xml"/><Relationship Id="rId7" Type="http://schemas.openxmlformats.org/officeDocument/2006/relationships/image" Target="../media/image32.gif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file:///tmp/home/.config/libreoffice/4/user/gallery/voltage.wav" TargetMode="External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image" Target="../media/image16.jpeg"/><Relationship Id="rId6" Type="http://schemas.openxmlformats.org/officeDocument/2006/relationships/hyperlink" Target="file:///tmp/home/.config/libreoffice/4/user/gallery/voltage.wav" TargetMode="External"/><Relationship Id="rId7" Type="http://schemas.openxmlformats.org/officeDocument/2006/relationships/image" Target="../media/image33.png"/><Relationship Id="rId8" Type="http://schemas.openxmlformats.org/officeDocument/2006/relationships/slide" Target="slide10.xml"/><Relationship Id="rId9" Type="http://schemas.openxmlformats.org/officeDocument/2006/relationships/image" Target="../media/image32.gif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slide" Target="slide10.xml"/><Relationship Id="rId11" Type="http://schemas.openxmlformats.org/officeDocument/2006/relationships/image" Target="../media/image32.gif"/><Relationship Id="rId1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image" Target="../media/image16.jpeg"/><Relationship Id="rId6" Type="http://schemas.openxmlformats.org/officeDocument/2006/relationships/hyperlink" Target="file:///tmp/home/.config/libreoffice/4/user/gallery/voltage.wav" TargetMode="External"/><Relationship Id="rId7" Type="http://schemas.openxmlformats.org/officeDocument/2006/relationships/image" Target="../media/image33.png"/><Relationship Id="rId8" Type="http://schemas.openxmlformats.org/officeDocument/2006/relationships/image" Target="../media/image32.gif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http://baike.baidu.com/view/63027.htm" TargetMode="External"/><Relationship Id="rId7" Type="http://schemas.openxmlformats.org/officeDocument/2006/relationships/hyperlink" Target="http://baike.baidu.com/view/2193.htm" TargetMode="External"/><Relationship Id="rId8" Type="http://schemas.openxmlformats.org/officeDocument/2006/relationships/hyperlink" Target="http://baike.baidu.com/view/3805.htm" TargetMode="External"/><Relationship Id="rId9" Type="http://schemas.openxmlformats.org/officeDocument/2006/relationships/hyperlink" Target="http://baike.baidu.com/view/53665.htm" TargetMode="External"/><Relationship Id="rId10" Type="http://schemas.openxmlformats.org/officeDocument/2006/relationships/hyperlink" Target="http://baike.baidu.com/view/731401.htm" TargetMode="External"/><Relationship Id="rId11" Type="http://schemas.openxmlformats.org/officeDocument/2006/relationships/hyperlink" Target="http://baike.baidu.com/view/644587.htm" TargetMode="External"/><Relationship Id="rId12" Type="http://schemas.openxmlformats.org/officeDocument/2006/relationships/hyperlink" Target="http://baike.baidu.com/view/54021.htm" TargetMode="External"/><Relationship Id="rId13" Type="http://schemas.openxmlformats.org/officeDocument/2006/relationships/hyperlink" Target="file:///usr/lib/libreoffice/share/gallery/sounds/applause.wav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file:///tmp/home/.config/libreoffice/4/user/gallery/voltage.wav" TargetMode="External"/><Relationship Id="rId16" Type="http://schemas.openxmlformats.org/officeDocument/2006/relationships/image" Target="../media/image33.png"/><Relationship Id="rId17" Type="http://schemas.openxmlformats.org/officeDocument/2006/relationships/image" Target="../media/image32.gif"/><Relationship Id="rId1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image" Target="../media/image32.gif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image" Target="../media/image32.gi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image" Target="../media/image32.gif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image" Target="../media/image32.gif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image" Target="../media/image32.gif"/><Relationship Id="rId1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image" Target="../media/image32.gi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6.jpeg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image" Target="../media/image33.png"/><Relationship Id="rId10" Type="http://schemas.openxmlformats.org/officeDocument/2006/relationships/image" Target="../media/image32.gif"/><Relationship Id="rId1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gi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6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981000"/>
            <a:ext cx="8208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文明、修身、成才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2565360"/>
            <a:ext cx="137952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95640" y="1700280"/>
            <a:ext cx="1621080" cy="18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43640" y="2060640"/>
            <a:ext cx="1300320" cy="180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332000" y="4149720"/>
            <a:ext cx="94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0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140360" y="3933720"/>
            <a:ext cx="94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0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</a:t>
            </a:r>
            <a:endParaRPr b="1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659640" y="4076640"/>
            <a:ext cx="94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0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</a:t>
            </a:r>
            <a:endParaRPr b="1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8028000" y="5734080"/>
            <a:ext cx="838080" cy="695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51640" y="623736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3840" y="6308640"/>
            <a:ext cx="43308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4149720"/>
            <a:ext cx="432000" cy="43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4076640"/>
            <a:ext cx="431640" cy="43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3933720"/>
            <a:ext cx="431640" cy="432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356000" y="44388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80360" y="45100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7440" y="4510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56000" y="33577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97440" y="33577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308720" y="33577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308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356000" y="23493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rId18" action="ppaction://hlinksldjump"/>
          </p:cNvPr>
          <p:cNvSpPr/>
          <p:nvPr/>
        </p:nvSpPr>
        <p:spPr>
          <a:xfrm>
            <a:off x="3780000" y="256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92720" y="4583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34304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21440" y="2494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3573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5440" y="256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34304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4583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46544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724360" y="234936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1" action="ppaction://hlinksldjump"/>
          </p:cNvPr>
          <p:cNvSpPr/>
          <p:nvPr/>
        </p:nvSpPr>
        <p:spPr>
          <a:xfrm>
            <a:off x="324000" y="6093000"/>
            <a:ext cx="3603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989000"/>
            <a:ext cx="19429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0</a:t>
            </a:r>
            <a:r>
              <a:rPr b="1" lang="zh-CN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题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40360" y="4581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93080" y="4581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581800" y="4653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3500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581800" y="3500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93080" y="3500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093080" y="2492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140360" y="24922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18" action="ppaction://hlinksldjump"/>
          </p:cNvPr>
          <p:cNvSpPr/>
          <p:nvPr/>
        </p:nvSpPr>
        <p:spPr>
          <a:xfrm>
            <a:off x="3564000" y="2708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4726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5440" y="26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37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9800" y="2708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4726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8980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508720" y="2492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rId21" action="ppaction://hlinksldjump"/>
          </p:cNvPr>
          <p:cNvSpPr/>
          <p:nvPr/>
        </p:nvSpPr>
        <p:spPr>
          <a:xfrm>
            <a:off x="324000" y="6093000"/>
            <a:ext cx="3603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989000"/>
            <a:ext cx="19429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0</a:t>
            </a:r>
            <a:r>
              <a:rPr b="1" lang="zh-CN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题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2"/>
          <a:stretch/>
        </p:blipFill>
        <p:spPr>
          <a:xfrm>
            <a:off x="324000" y="3933720"/>
            <a:ext cx="1944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92360" y="4581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92720" y="4653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35280" y="33577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292720" y="3357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236000" y="3429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164360" y="2060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308720" y="4581360"/>
            <a:ext cx="719280" cy="790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635280" y="2060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rId18" action="ppaction://hlinksldjump"/>
          </p:cNvPr>
          <p:cNvSpPr/>
          <p:nvPr/>
        </p:nvSpPr>
        <p:spPr>
          <a:xfrm>
            <a:off x="2987640" y="21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20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47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500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227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59280" y="342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148360" y="2133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21" action="ppaction://hlinksldjump"/>
          </p:cNvPr>
          <p:cNvSpPr/>
          <p:nvPr/>
        </p:nvSpPr>
        <p:spPr>
          <a:xfrm>
            <a:off x="324000" y="6093000"/>
            <a:ext cx="3603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989000"/>
            <a:ext cx="19429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0</a:t>
            </a:r>
            <a:r>
              <a:rPr b="1" lang="zh-CN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题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2"/>
          <a:stretch/>
        </p:blipFill>
        <p:spPr>
          <a:xfrm>
            <a:off x="395280" y="3500280"/>
            <a:ext cx="2305080" cy="2195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516720" y="472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迟到的同学在教室门口应先停下脚步，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报告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67640" y="5950080"/>
            <a:ext cx="961920" cy="761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无论要求别人做什么，都应该（ ）字当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请）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667640" y="5950080"/>
            <a:ext cx="9619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要去同学家玩，事先应得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谁的许可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667640" y="5950080"/>
            <a:ext cx="9619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请问：“不速之客”是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没有被邀请而突然到来的客人）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在什么情况下，应该主动向别人道歉，请讲出三个例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90724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校领导给你颁奖时，你应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怎么做？（包括语言和动作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说谢谢，并双手接过礼物）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你称呼你妈妈的老公的妈妈的老公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爷爷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请你做一个关于礼仪的动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比如再见）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你称呼你爸爸的老婆的妈妈的老公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外公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请问：“远亲不如近邻”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自己需要帮助时，离自己远的亲友比不上离自己近的邻居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06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在什么情况下，我们应该向别人说多谢的，请说出三个例子。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在食堂用餐时，你应该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我们在学习知识，抓紧时间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向雷锋学习什么精神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1979640" y="393372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钉子精神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毛泽东曾给雷锋题词，请问这句词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908000" y="3789360"/>
            <a:ext cx="391500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向雷锋同志学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7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晚锻炼时你的鞋带掉开了，你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在尊重老师方面，我们应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举三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411280" y="2421000"/>
            <a:ext cx="316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文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71640" y="593640"/>
            <a:ext cx="7056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下第三节课钟一响，我们必须到操场集合，排队做课间操，这一过程要做到（ ）、（ ）和（ ）用三个字概括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快、静、齐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我国提倡的礼貌用语五个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“您好”、“请”、“谢谢”、“对不起”、“再见”）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请你说一句关于“讲文明”的宣传标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请你说两项关于“八荣八耻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热爱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祖国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荣、以危害祖国为耻， 以服务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人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荣、以背离人民为耻，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崇尚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科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荣、以愚昧无知为耻， 以辛勤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劳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荣、以好逸恶劳为耻，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团结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互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荣、以损人利己为耻， 以诚实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守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荣、以见利忘义为耻，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遵纪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守法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荣、以违法乱纪为耻， 以艰苦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奋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荣、以骄奢淫逸为耻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7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你在学校看到那些文明标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举一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忍一忍让一让多一位朋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已有光明大道何必另辟小径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0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436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地铁或公交车上，经常听到或看到的口号、标语有哪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举两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注意安全，扶好、坐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要将身体伸到车厢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动给老人、病人、残疾人、孕妇和带小孩的妇女让座。 ）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0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古时称同学为：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古时称老师为：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古时称学生为：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58000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同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2924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先生 恩师  夫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80000" y="378936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门生  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354040" y="494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个即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时称对方父亲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时称对方母亲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292720" y="234936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令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4000" y="3573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令堂、令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0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622240" y="4476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个即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请你说一句雷锋的名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0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484000" y="335772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有限的生命投入到无限的为人民服务中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当举行升旗仪式时，你该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举三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95280" y="333360"/>
            <a:ext cx="5040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请欣赏三句半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205000"/>
            <a:ext cx="67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《我文明， 我美丽！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5640" y="4724280"/>
            <a:ext cx="15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表演：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627280" y="4508640"/>
            <a:ext cx="38894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罗婉静 区达辉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罗颖欣  陈庭辉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3357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79560" cy="3213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476360" y="40464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问答题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请问对方姓什么，应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575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587520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372360" y="184464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贵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435640" y="32846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免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0"/>
          <a:stretch/>
        </p:blipFill>
        <p:spPr>
          <a:xfrm>
            <a:off x="7451640" y="5877000"/>
            <a:ext cx="96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971640" y="59364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1116000" y="907920"/>
            <a:ext cx="295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品表演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09" name=""/>
          <p:cNvSpPr/>
          <p:nvPr/>
        </p:nvSpPr>
        <p:spPr>
          <a:xfrm>
            <a:off x="2843280" y="2781360"/>
            <a:ext cx="27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Arial"/>
                <a:ea typeface="华文行楷"/>
              </a:rPr>
              <a:t>应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9640" y="6165720"/>
            <a:ext cx="36036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411280" y="2421000"/>
            <a:ext cx="316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成才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056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1042920" y="3213000"/>
            <a:ext cx="7129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理想•抉择•奋斗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258920" y="1052640"/>
            <a:ext cx="691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把握今天  展望未来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7056360" cy="62643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202485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95280" y="620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同学们，战鼓已雷鸣，现不拼搏更待何时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9280" y="2708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从现在做起、从自我做起，中考金榜题名时必有你耀眼的名字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1295280" y="990720"/>
            <a:ext cx="6705720" cy="342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感谢您的光临与指导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19382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2286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4104000" cy="4104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885080" y="6093000"/>
            <a:ext cx="5745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0" dur="25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1" dur="25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25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6842160" cy="5905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8317080" y="6237360"/>
            <a:ext cx="3585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8" dur="250" autoRev="1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9" dur="250" autoRev="1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0" dur="250" autoRev="1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403280" y="2492280"/>
            <a:ext cx="4802400" cy="19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什么是美？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0"/>
            <a:ext cx="4969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说我说大家说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826920" y="0"/>
            <a:ext cx="705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5280" y="260280"/>
            <a:ext cx="208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修身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268360" y="1413000"/>
            <a:ext cx="4248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相声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《我的一天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71640" y="4941720"/>
            <a:ext cx="15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表演：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32000" y="59364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843280" y="4653000"/>
            <a:ext cx="32763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李庭轩  梁桂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619280" y="1628640"/>
            <a:ext cx="453708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请指出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"</a:t>
            </a:r>
            <a:r>
              <a:rPr b="0" lang="zh-CN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</a:t>
            </a: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"</a:t>
            </a:r>
            <a:r>
              <a:rPr b="0" lang="zh-CN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在一天中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的不文明行为</a:t>
            </a: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!!!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403280" y="2637000"/>
            <a:ext cx="5810400" cy="19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文明礼仪知多少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476280"/>
            <a:ext cx="4968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说我说大家说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16000" y="333360"/>
            <a:ext cx="7056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9:5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20:19Z</dcterms:modified>
  <cp:revision>56</cp:revision>
  <dc:subject>主题班会课件(分28大类): http://shop62905894.taobao.com</dc:subject>
  <dc:title>主题班会课件(分28大类): http://shop62905894.taobao.com</dc:title>
</cp:coreProperties>
</file>